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4E6-E6CE-40FA-814A-9421BD9D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9DD-C569-43FC-A4BC-B79BF520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CE7B3-7DD0-4642-93FE-6B29371A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AB9AB-70BE-4C82-877C-9A4FAEDC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8BE6D-3341-4943-A367-0711F833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14F20-06CE-4461-877B-0032F87F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F1F45-9647-4995-8DDE-3E3E2020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27F59-A363-49B0-BF67-60620344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1F1EC-9E90-46F6-8738-9A28A9CB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34308-514F-4F67-B776-491335D4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45274-4F66-4928-AC7F-F14AEC70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57F83-9C0F-4177-9C56-EF447369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650-5632-4CD9-ADD6-192CDBD8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62820-BA09-47A6-96BF-56729C97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B201B-529E-4621-B0B9-7C320E26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92A6E-82D8-4FF1-B606-868E1360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E5F40-F83B-44C3-A244-6DCEC321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7617E-BA5A-485D-B32A-45790328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71EAE-0228-4FC6-B815-B7DB4E44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CF0F9-27BA-4A8D-A1EE-8894C174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48900-76CA-421A-BDA6-96A95D29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25494-895F-455F-A254-1AA4FDD8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55252-0607-4D7E-A222-13C0AB3F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A6E-FB26-488F-8B2D-C6FEDBD8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0BEC7-61DE-488B-B6C3-70A4BC04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C1CCD-C12C-4A89-BF64-9EA24E31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91BEB-4771-45D6-A6AC-EBB85C65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16789-8A53-4953-A4FD-4EFBB576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ED10D-181E-4A9D-93D4-9542A660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64D99-16B7-4512-AC6B-764B2E72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CBF06-5F68-4446-9433-8D62AF01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287B7-CDBD-40E2-9D52-953496E2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ED84A-0B85-4535-87DB-F27981CC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73DE6-ECDC-46C9-B116-992A2334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A275-D79D-44EC-B4F3-44B61743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D3D5A-4BCE-4D3D-B06D-A4AA1467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C662A-3399-4D47-86DC-042578F2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99AE6-2285-40B8-867D-5E581B8B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34A23-8A8B-470E-B030-73585A7C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FE2B3-5C00-4AB3-980C-16377598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70300-369F-44FC-88BD-8C402CB7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F13EF-8F5F-4124-8E53-42E94741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7C3D4-6D82-41A3-973E-7360AD4C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F002E-274C-4FDF-BAE4-A12F0712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B6A30-A99F-4538-A129-E94458C0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E5CA-6783-4ADB-9A0C-F1293ECB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CAB65-FA02-486E-93B3-B8CE301F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F00FA-3616-49DB-B5D2-DDBF5F71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607E8-E14C-4FE3-AF8F-6FA8F71E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BE001-B29A-4F59-9293-24BA8622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BB302-6D85-4718-B019-F4888923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F0D1-635E-42C6-B165-BE2CEEEA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930F-47E5-4383-9704-7EA1F780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C9FB-7BE2-440B-A752-B09D5C65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E5B3-BE93-46C9-B5AF-006EBAAE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28A4-97E1-4BAA-8545-859D5024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048-953B-4233-AC12-DD5FE961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21BB-F60D-4DA2-9CAE-B5567D51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B557-1B65-4ED8-8CE1-7049070D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FC73-FEA2-4C71-A2FD-44350E4D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FC5E-5546-400B-8F10-E9D1E838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AC69-A9AB-4811-A197-C8AF4B76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5C38C-7377-4F7A-A018-0D2675E6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86340-6CDC-4AD5-A680-39A9553C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7B9C-78BA-46AD-87D1-93A16A53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2107F-AC2A-4B57-B96F-7B94C888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F19D-83F0-46BB-BE0A-3266688E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789-243D-4C24-A1CD-E95B6D5A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86EAF-3E62-4DD2-B3FC-7CA1ACF2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D0067-230A-4E1E-A859-DBCA77CD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2D4D-40B9-4C5D-B94A-9FCEF370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7B35B-A96F-44A8-BF87-46878083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7D603-926A-4E15-8846-CFF83899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91A0C-7EA5-466A-8A0F-7C93DC04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4E12E-3FD5-4131-BEAD-F8CEEDDF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D9B02-BF70-4858-A0D6-8BEC9093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F8170-5439-44FD-B791-44DDBEE2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2670C-CDCF-4A4C-865A-37B20195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FAF-1D55-4967-B2DB-E9AF076A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E5997-C29D-4490-A467-D78C5198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6280-9724-4582-B27A-AA44A46E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174FC-43DD-4E9C-A83A-437FDE3E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03C3B-7C1E-494B-B732-CA29D68F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2649-BBA5-4F2B-B3D2-134E0EA0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792B6-EC0B-489A-930A-5EACB06A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24A4-F201-4819-9F21-60886337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A5605-CCD9-45BB-A577-FDC60D08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E256D-BBC7-4693-A8A1-64B367CD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21810-852F-4452-9466-785F5714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B0EB-E612-4D3C-BE8F-3F4C4E63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4E054-AB4D-4DB4-9BEA-A16F078B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3DC9C-923A-4D4C-9B61-03BEDE23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22E8B-CBC9-4A0B-A37D-42FBF06A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A3F1E-E723-4066-97F0-9846D1E9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EC95A-B458-4249-A7FC-B6991D39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A5DF3-2E24-4769-87C6-915FCCE3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5F1AC-D617-4818-94F3-FA2B6EAB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166C2-F8AC-4A46-84D1-1CD302CC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F3F7D-B747-4148-8B2A-8FE07B98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B81FC-7288-4C19-9487-A413CA63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842-0A6C-4FCE-8F76-CB41A9FC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0AA89-1C56-43B7-BE6B-FC35B0AA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7145E-F5C3-4D84-ABDC-97B0FA50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9E05A-731E-4C42-8F21-23F1FE0A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70351-53B0-4100-A7CA-4983BA66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A80FB-7659-4C17-AD70-AF10A06D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17CE0-66FC-43DE-B401-DBB57CAD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4272F-3EED-495C-9527-A4B77240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B5B4C-397B-4D43-A47C-0E58A84F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4998C-1647-4042-8347-766613E1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78B1C-1343-4AF7-BCF9-DA435528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5F4-9464-419B-933C-F8277A5A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D7181-3993-4E0F-9C4D-9011E876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7061C-A8D4-4A84-8384-0CFDAAB8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B94AA-9821-4648-8221-DAE71221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A4E5A-30E5-46FA-986E-EA375702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FF3A8-CC0C-460D-9F4E-85CBD66E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96F6F-D9D4-4256-BE8A-6938A135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1270B-60F7-4101-8CB9-9FC9D957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8E776-2198-4579-A23A-D76E6997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5340A-BD0A-48E7-99EF-662D7DCD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E030D-96EA-4172-B7BA-AF136050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2B6-5001-471F-B2A0-B1503A9D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C00CD-68E2-40B4-8E51-D70E0431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35073-7192-4775-BF61-4C612BCC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6DBB7-8F53-4254-A9E5-5BCFC68A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3FFA7-4ED3-439E-A692-AE335143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09E12-04EA-4546-AEA6-80EDD2F0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102F3-2EBF-488C-AB16-224CBEBC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DABEC-D0EC-4013-9D76-A5F35350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7A272-DD23-44C5-B5FF-E264EA11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B398-0860-4BFD-BD50-C063088C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031D5-C949-4CCE-A830-F2249931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94C-9475-4FC5-8BE9-2EB6919C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72E4D-922E-4334-97F4-E35274D7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A1A00-4A11-468D-86C9-2AB67CB6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1E42B-4DA5-4F07-8C51-EDB4DFD3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6B695-2E4D-44EF-BEDD-22401B49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7CEEB-B48A-4C27-8B37-3882DE30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BD467-5017-4FDA-99E7-E8C626B5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2D6DB-7ABC-417D-B7E1-F6BC29EC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65727-4106-4989-A7CF-913616CC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B0C4B-83FC-4008-BB21-68612ACF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AF6AF-2E23-41C6-91A5-D7D7AC81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08DA-82C7-42E5-AE43-28C9E956FF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0249-9CB7-4FD3-9DD0-7B255D25180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0DA9-9F92-4BB3-9A0D-1746DEF8EF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0AB9-8D69-4BA7-8BD3-35B06F3945F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FAD3-FE3C-4BD6-9B0A-5FF10207B6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F9FD-AFB0-463B-B7DD-4717A44C33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BAD2-17C5-4291-8EBB-1CDCCAFA73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A087-1251-45D3-86F9-8BE686B4F0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21B7-9D5C-499B-93DE-2EBC0F0E7C2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1499-680F-4F07-9A53-48BF01D51F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6E78-36EE-4E71-8E04-DC409CC73CC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9BEA-1F15-4635-9566-58F8375B1F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21 Ako ľúby vánok z ra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ľúby vánok z raj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eno Ježiš milo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sa nádej naša spá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y zárukou nám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hernú Božiu zv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smieme blížnym niesť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, náš Kráľ a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večný chce da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drahom mene Ježišov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l nám Otec neba skvost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ší svojej lásky slov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mu vďaka za mil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hernú Božiu zv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smieme blížnym niesť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, náš Kráľ a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večný chce da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jeho mene naša spá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pečne nás vedie vpr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vždy verne za ním kráč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zvábi ho z cesty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hernú Božiu zv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smieme blížnym niesť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, náš Kráľ a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večný chce da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u, vďaku jemu vzd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lovekom sa pre nás stal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e ho privít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de ako kráľov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hernú Božiu zv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smieme blížnym niesť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, náš Kráľ a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večný chce dať n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52:26Z</dcterms:modified>
  <cp:revision>24</cp:revision>
  <dc:subject/>
  <dc:title>Je veľký náš Pán, on slávy je Kráľ Nech do všetkých strán  spev vrúcnych znie chvál.</dc:title>
</cp:coreProperties>
</file>